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505-7679-40DD-9E6F-AAB4F8D9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51F-305C-4411-8789-E6E2128A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CF3-E423-4998-BAB7-B8B59414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30F-F4A6-42F7-892F-1CB0FCD8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38DD-CC1F-467B-8E5D-EC6DD019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571C-A90D-49B7-BDF4-E9D1EEA3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30B8-BFC3-4774-9CB6-9BE05D29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9E0D-F2B9-41E9-BD08-5CE32A3A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5E35-971F-4E40-8439-F72BC1A8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518B-F01A-45F5-BC8D-321D0BF4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B754-6FB5-48EB-9C9A-28763D31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CDD-CC98-4A21-827F-D16F0FC8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B48B-38F6-4E01-B645-19DB3257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25C6-B5C9-4CA4-A768-481A2C0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2C09-3B0D-4636-A253-771EE74C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A989-B012-4A89-A3FB-0D99A09E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0D55-1886-46CB-9117-6E2737C9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E84-CC32-4049-BE39-CBDD6250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417-28DE-45EC-8C32-AED14518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8F1-6FBF-4303-B273-12145474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F4A-A3DD-4151-8269-15982A4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8F8-426A-4D6C-8FC0-A9A6A4C5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7C8-A188-4B22-9F18-CF789529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BA6-EAD1-42A3-B044-EC4AC8E8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7ADF-9B55-40E3-B351-7ECEFB30F21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4405-DB9F-4B39-A423-15C3A17DE3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FD08-1E0B-4D4A-A853-AEA128323A8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755F-5A6F-416A-B6AF-33ECB7BD73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66"/>
                </a:solidFill>
                <a:latin typeface="Arial"/>
              </a:rPr>
              <a:t>Компьютерная графика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A327-18B3-458B-9558-A815910E6F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B0318A8-7EE8-4AED-A848-8B05C7B780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38160"/>
            <a:ext cx="9068040" cy="680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B494-52CE-4CCC-A3C1-2CA1DB65661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511A794-2106-4A58-811C-BD62F0DE69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рафические редакто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рафическими редакторами называются программные средства, предназначенные для работы с графическими изображениям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C27-98C4-4CCF-A383-4738503435F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23C18-8101-4A3E-B776-A4DA5194422F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тандартное окно графического редактора состоит из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бочего по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оки мен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нели инструмен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литры цве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815-D774-4D52-9DC2-43AA3D21D6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A1E85-AE69-4A1C-8ECF-BA89B27928E1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0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3A4-6C15-4E9B-BF3B-CFDB0F786B61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6A328-C820-4039-BF0A-2D61E49278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66"/>
                </a:solidFill>
                <a:latin typeface="Arial"/>
              </a:rPr>
              <a:t>Режимы работы графического редактора.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жим работы с рисунк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жим выбора и настройки инструмен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жим выбора рабочих цвет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жим работы с внешними устройства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762-35C1-4F3D-9F5F-D2C871E521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869E1-FC17-4493-A236-3466ADE6E2B1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прос 8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Системы команд графического редактора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9B1-6DA4-4896-B019-A7EDF834CE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CCC73-D83C-457B-8B63-95605DCAF558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66"/>
                </a:solidFill>
                <a:latin typeface="Arial"/>
              </a:rPr>
              <a:t>Системы команд графического редактора: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манды настройки инструм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манды выбора инструм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манды выбора цвет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манды масштабирования рисун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манды ввод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вывода рисунка на внешние устрой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0DB-AFC8-455E-ADC2-B89CCCA742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B9A43-1D38-4AA8-BEBB-0143DDDF92DF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аиболее распространены сегодня следующие графические редакто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 Pai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be Photosho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elDr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-ST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029200" y="1752480"/>
          <a:ext cx="175248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752480"/>
                    <a:ext cx="175248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038480" y="2971800"/>
          <a:ext cx="396252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971800"/>
                    <a:ext cx="39625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657600" y="5105520"/>
          <a:ext cx="4572000" cy="128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5105520"/>
                    <a:ext cx="457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55B-B62B-4EE9-887F-6C99DDC7B49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4EB38-43F3-412F-BD34-5BD2B7C2CE15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256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ьютер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я графика – специальная область информатики, изучающая методы и средства создания и обработки изображений с помощью программно-аппаратных вычислительных комплекс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B66-E8A5-4220-BBE8-0CB3557562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0ABB9-0338-44B6-B804-67DDFC454863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иды компьютерной граф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524880" cy="518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Растрова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Векторна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Фрактальна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Отдельно выделяют трехмерную график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DA1-C019-411A-BD9C-F640DC1836C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BE79F-3232-40AB-AE8D-074174B01066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114480"/>
            <a:ext cx="8080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азовым элемент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тровой графики является точка:        </a:t>
            </a:r>
            <a:r>
              <a:rPr b="0" lang="ru-RU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екторной графики – лини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рактальной – формула: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kx+b, y=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3733920"/>
            <a:ext cx="1143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6" name=""/>
          <p:cNvCxnSpPr/>
          <p:nvPr/>
        </p:nvCxnSpPr>
        <p:spPr>
          <a:xfrm rot="10800000">
            <a:off x="8000280" y="3276000"/>
            <a:ext cx="76284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ff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FA6-4422-4306-BE29-F72B31362D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C1777-D29E-4CCF-9EAB-0EEC37810331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80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стровая граф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727200"/>
            <a:ext cx="8382240" cy="58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B97-CCA5-4C09-822B-14C2420AF87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D74BE-F2D8-4CA9-9F60-61359C861B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екторная граф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001000" cy="61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A21-5A69-44A2-8528-B481688ABA2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F5500-55AF-4A17-A9AA-FFB6DF9EA3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80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Фрактальная граф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36040" cy="551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C66-3F3F-4603-B0C4-F06583F1F22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A2CF4-7DC1-4DD4-BD38-02132D3F15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рехмерная график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636040" cy="574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517F-56DD-413B-8A19-4E563F16A4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A053A04-C574-490B-B3A1-CB64EC407F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зображение на экране монито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15004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зображение на экране монитора формируется сложением трех основных цветов: красного, зеленого, синего (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GB)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инимальный элемент изображения называется пиксел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467-03B3-4289-B252-E1DEA6AA9F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A3184-087D-43D7-8BA9-D4CD12413DB9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10T17:05:07Z</dcterms:modified>
  <cp:revision>33</cp:revision>
  <dc:subject/>
  <dc:title>Презентация PowerPoint</dc:title>
</cp:coreProperties>
</file>