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0AA-3BCB-4668-824E-2102F20C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541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2760" y="3949920"/>
            <a:ext cx="8541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527-F6EB-4BB8-AC6E-8E6EB012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92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276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92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D0C-F000-4AA2-8871-D6F6D6FC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27500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500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8600" y="1599840"/>
            <a:ext cx="27500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2760" y="3949920"/>
            <a:ext cx="27500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90680" y="3949920"/>
            <a:ext cx="27500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8600" y="3949920"/>
            <a:ext cx="27500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1C7-0596-4013-A442-0E91A382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3230-CFB2-4A52-9CA7-BFEC03B9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4B61-B72B-4058-8E80-2C0EE2BF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DB0E-0C56-442E-AF65-F9A5B84B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92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FA4A-B70E-4466-A35C-83B69DAC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81D7-A52D-4E11-9E40-A4BEEFF6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2760" y="2282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5F38-430D-4BB2-AE56-F1FD2409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92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276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D58F-6639-4793-8A04-2F8BBE3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DB72-327D-4384-87D3-A0DC6F25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92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92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9736-DC8D-4227-8A79-FF01BE52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92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2760" y="3949920"/>
            <a:ext cx="8541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C312-FF37-4B2F-8867-82C3E23F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541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2760" y="3949920"/>
            <a:ext cx="8541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9C56-B99A-44DD-B766-DE5EFFB4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92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276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92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17F3-5EB6-43D6-AAF1-66BC1654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27500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500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8600" y="1599840"/>
            <a:ext cx="27500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2760" y="3949920"/>
            <a:ext cx="27500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90680" y="3949920"/>
            <a:ext cx="27500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8600" y="3949920"/>
            <a:ext cx="27500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EE5F-37EC-4620-9ACB-F6EC14AD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D54-FE04-4315-82A8-DBF13544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92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521E-F546-48D6-9986-A74BA4B9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BB2-6591-4E46-B20C-E6E587F1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2760" y="2282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23D-4F8F-4E6E-A6D5-2CC46DF9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92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276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D8D9-DD89-490A-B204-2D9065CE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92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92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E8D-235F-4649-921A-F1EE910D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92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2760" y="3949920"/>
            <a:ext cx="85410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0C3-CB15-495E-BB05-4C23095B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4360" cy="5435640"/>
            <a:chOff x="3600" y="1422360"/>
            <a:chExt cx="914436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6280" cy="5435640"/>
              <a:chOff x="31680" y="1422360"/>
              <a:chExt cx="911628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40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76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10044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124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420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268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680" y="1536840"/>
                <a:ext cx="392328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624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744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360" y="5518080"/>
                <a:ext cx="452160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144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528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76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2760" y="624492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90C8-9F38-475E-B64C-B1F77FF178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4360" cy="5435640"/>
            <a:chOff x="3600" y="1422360"/>
            <a:chExt cx="914436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6280" cy="5435640"/>
              <a:chOff x="31680" y="1422360"/>
              <a:chExt cx="911628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40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76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10044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124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420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268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680" y="1536840"/>
                <a:ext cx="392328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624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744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360" y="5518080"/>
                <a:ext cx="452160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144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528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76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AD6A-9B85-41E9-A908-F8CB46E63B4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Данные и информация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ма 2: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инципы и технические средства хранения, обработки и передачи информации в компьютерах и компьютерных сетях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ероятностный метод оценки информ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т способ исходит из следующей модели. Получатель информации имеет определенные представления о возможных наступлениях некоторых событий. Эти представления в общем случае недостоверны и выражаются вероятностями, с которыми он ожидает то или иное событие. Общая мера неопределенности характеризуется некоторой математической зависимостью от совокупности этих вероятностей. Количество информации  в сообщении определяется тем, насколько уменьшится эта мера после получения сообщения. Количество информации при данном подходе вычисляется по формул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де m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число возможных равновероятных выбор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067280" y="5229360"/>
                <a:ext cx="1728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Алгоритмический метод измерения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уть его состоит в том, что любому сообщению можно приписать количественную характеристику, отражающую сложность (размер)  программы, которая позволяет ее произвести. Так как имеется много разных вычислительных машин и разных языков программирования, то для определенности задаются некоторой конкретной вычислительной машиной, сложность слова (сообщения) определяется как минимальное число внутренних состояний машины, требующиеся для его воспроиз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игна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что нас окружает, относится либо к физическим телам, либо к физическим полям. Физические объекты находятся в состоянии непрерывного движения и изменения, которое сопровождается обменом энергией и ее переходом из одной формы в другу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виды энергообмена сопровождаются появлением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игнал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Сигналы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это возмущения сре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анные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Данные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– это зарегистрированные сигналы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и этом метод регистрации может быть любым: механическое перемещение физических тел, изменение их формы или параметров качества поверхности, изменение электрических, магнитных, оптических характеристик, химического состава и характера химических связей, изменение состояния электронной системы и многое друг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анные несут в себе информацию о событиях, произошедших в материальном мире, поскольку они являются регистрацией сигналов, возникших в результате этих событий. Однако данные не тождественны информ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формац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 u="sng">
                <a:solidFill>
                  <a:srgbClr val="ff6600"/>
                </a:solidFill>
                <a:uFillTx/>
                <a:latin typeface="Tahoma"/>
              </a:rPr>
              <a:t>Информация</a:t>
            </a:r>
            <a:r>
              <a:rPr b="0" i="1" lang="en-US" sz="32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– э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продукт взаимодействия данных и адекватных им метод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формационное сообщ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0852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формационное сообщение связано с источником сообщения, получателем сообщений и каналом связи таким образо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войства информации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406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Объективность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онятие объективности информации является относительным. Методы являются субъективными. Более объективной принято считать ту информацию, в которую методы вносят меньший субъективный элемент. В ходе информационного процесса степень объективности информации всегда пониж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Полнота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войство информации исчерпывающе (для данного потребителя) характеризовать отображаемый объект или процес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Достоверность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войство информации не иметь скрытых ошиб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Адекватность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войство информации однозначно соответствовать отображаемому объекту или явл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00"/>
                </a:solidFill>
                <a:uFillTx/>
                <a:latin typeface="Tahoma"/>
              </a:rPr>
              <a:t>Доступность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войство информации, характеризующее возможность ее получения данным потребителе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Актуальность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это степень соответствия информации текущему моменту време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иды информац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нформацию можно классифицировать разными способами, и разные науки делают это по-разному. В информатике иногда информацию принято делить н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но-математическу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екстову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афическу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иде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вукову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етоды оценки информации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м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роятностный (энтропий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горитмиче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Объемный метод оценки информац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ъемный является самым простым и грубым способом измерения информации.  Соответствующую количественную оценку информации называют объемом информации. Объем информации в сообщении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это количество символов в сообщении. Поскольку одно  и то же число может быть записано многими разными способами, то этот способ чувствителен к форме представления (записи) сообщ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4:41:18Z</dcterms:created>
  <dc:creator>User</dc:creator>
  <dc:description/>
  <dc:language>en-US</dc:language>
  <cp:lastModifiedBy>User</cp:lastModifiedBy>
  <dcterms:modified xsi:type="dcterms:W3CDTF">2006-04-10T16:59:07Z</dcterms:modified>
  <cp:revision>3</cp:revision>
  <dc:subject/>
  <dc:title>Слайд 1</dc:title>
</cp:coreProperties>
</file>