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0B7-C744-4961-B830-99D0B48B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A04-25CD-4464-93DA-0576093C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8E2-7F4B-4C8C-8243-6B713CAA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D1A-0557-4FAF-A40B-8D03888D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0D19-786E-454E-88B5-D9571611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ED59-082D-4771-ABB6-6E8FA58B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A507-2990-4E13-9F5B-49C82925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54BB-CD88-4EFC-8EAC-8CDBD54D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42C5-B9A9-4E2C-8DA7-AD36B6D1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8171-7530-4C6C-BF0A-841882DA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8CE4-D4FA-4CDC-9CCE-7BF21ED7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DC4-AA63-4DB8-B862-D672422D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C849-25D2-44A4-81EB-74FFF236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477F-A4B5-44AC-BEB6-B4561C25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269E-C060-4496-AB16-72AA6671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5521-EFEF-4FEF-A8CB-CE3E53DC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2CF1-C180-4488-89C5-CEA816A0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E54-B634-499E-89E9-1D521F30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51A-74E8-4EA4-AC4B-BB131288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036-6E20-403C-84DF-E80B6720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F86-0504-4B21-9478-9D927811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948-B3A9-4ADF-8424-0034102B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0DA-1F7D-4AD7-8D29-D5B5F5A6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DFFE-40DC-4F64-8A44-7490AC7A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5DAC-8E23-43C4-B3B8-56B8BF59D0C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98B3-FCDA-4499-AD4B-E316A0B218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CCCD-17B7-488D-91FE-8603DB6C2CB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FFED-D82D-4FF0-82D4-7EC4EFCE65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980.WAV" TargetMode="External"/><Relationship Id="rId2" Type="http://schemas.microsoft.com/office/2007/relationships/media" Target="file:///tmp/home/.config/libreoffice/4/user/gallery/~PP398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998.WAV" TargetMode="External"/><Relationship Id="rId2" Type="http://schemas.microsoft.com/office/2007/relationships/media" Target="file:///tmp/home/.config/libreoffice/4/user/gallery/~PP39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775.WAV" TargetMode="External"/><Relationship Id="rId2" Type="http://schemas.microsoft.com/office/2007/relationships/media" Target="file:///tmp/home/.config/libreoffice/4/user/gallery/~PP277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91.WAV" TargetMode="External"/><Relationship Id="rId2" Type="http://schemas.microsoft.com/office/2007/relationships/media" Target="file:///tmp/home/.config/libreoffice/4/user/gallery/~PP39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491.WAV" TargetMode="External"/><Relationship Id="rId2" Type="http://schemas.microsoft.com/office/2007/relationships/media" Target="file:///tmp/home/.config/libreoffice/4/user/gallery/~PP49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71.WAV" TargetMode="External"/><Relationship Id="rId2" Type="http://schemas.microsoft.com/office/2007/relationships/media" Target="file:///tmp/home/.config/libreoffice/4/user/gallery/~PP7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95.WAV" TargetMode="External"/><Relationship Id="rId2" Type="http://schemas.microsoft.com/office/2007/relationships/media" Target="file:///tmp/home/.config/libreoffice/4/user/gallery/~PP319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344.WAV" TargetMode="External"/><Relationship Id="rId2" Type="http://schemas.microsoft.com/office/2007/relationships/media" Target="file:///tmp/home/.config/libreoffice/4/user/gallery/~PP2344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425.WAV" TargetMode="External"/><Relationship Id="rId2" Type="http://schemas.microsoft.com/office/2007/relationships/media" Target="file:///tmp/home/.config/libreoffice/4/user/gallery/~PP342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624.WAV" TargetMode="External"/><Relationship Id="rId2" Type="http://schemas.microsoft.com/office/2007/relationships/media" Target="file:///tmp/home/.config/libreoffice/4/user/gallery/~PP2624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495.WAV" TargetMode="External"/><Relationship Id="rId2" Type="http://schemas.microsoft.com/office/2007/relationships/media" Target="file:///tmp/home/.config/libreoffice/4/user/gallery/~PP349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599.WAV" TargetMode="External"/><Relationship Id="rId2" Type="http://schemas.microsoft.com/office/2007/relationships/media" Target="file:///tmp/home/.config/libreoffice/4/user/gallery/~PP3599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20.WAV" TargetMode="External"/><Relationship Id="rId2" Type="http://schemas.microsoft.com/office/2007/relationships/media" Target="file:///tmp/home/.config/libreoffice/4/user/gallery/~PP32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750.WAV" TargetMode="External"/><Relationship Id="rId2" Type="http://schemas.microsoft.com/office/2007/relationships/media" Target="file:///tmp/home/.config/libreoffice/4/user/gallery/~PP75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712.WAV" TargetMode="External"/><Relationship Id="rId2" Type="http://schemas.microsoft.com/office/2007/relationships/media" Target="file:///tmp/home/.config/libreoffice/4/user/gallery/~PP271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641.WAV" TargetMode="External"/><Relationship Id="rId2" Type="http://schemas.microsoft.com/office/2007/relationships/media" Target="file:///tmp/home/.config/libreoffice/4/user/gallery/~PP164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322.WAV" TargetMode="External"/><Relationship Id="rId2" Type="http://schemas.microsoft.com/office/2007/relationships/media" Target="file:///tmp/home/.config/libreoffice/4/user/gallery/~PP232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572.WAV" TargetMode="External"/><Relationship Id="rId2" Type="http://schemas.microsoft.com/office/2007/relationships/media" Target="file:///tmp/home/.config/libreoffice/4/user/gallery/~PP157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7.WAV" TargetMode="External"/><Relationship Id="rId2" Type="http://schemas.microsoft.com/office/2007/relationships/media" Target="file:///tmp/home/.config/libreoffice/4/user/gallery/~PP37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239.WAV" TargetMode="External"/><Relationship Id="rId2" Type="http://schemas.microsoft.com/office/2007/relationships/media" Target="file:///tmp/home/.config/libreoffice/4/user/gallery/~PP1239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74.WAV" TargetMode="External"/><Relationship Id="rId2" Type="http://schemas.microsoft.com/office/2007/relationships/media" Target="file:///tmp/home/.config/libreoffice/4/user/gallery/~PP274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008.WAV" TargetMode="External"/><Relationship Id="rId2" Type="http://schemas.microsoft.com/office/2007/relationships/media" Target="file:///tmp/home/.config/libreoffice/4/user/gallery/~PP300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978.WAV" TargetMode="External"/><Relationship Id="rId2" Type="http://schemas.microsoft.com/office/2007/relationships/media" Target="file:///tmp/home/.config/libreoffice/4/user/gallery/~PP297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255.WAV" TargetMode="External"/><Relationship Id="rId2" Type="http://schemas.microsoft.com/office/2007/relationships/media" Target="file:///tmp/home/.config/libreoffice/4/user/gallery/~PP125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314.WAV" TargetMode="External"/><Relationship Id="rId2" Type="http://schemas.microsoft.com/office/2007/relationships/media" Target="file:///tmp/home/.config/libreoffice/4/user/gallery/~PP1314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77.WAV" TargetMode="External"/><Relationship Id="rId2" Type="http://schemas.microsoft.com/office/2007/relationships/media" Target="file:///tmp/home/.config/libreoffice/4/user/gallery/~PP3177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563.WAV" TargetMode="External"/><Relationship Id="rId2" Type="http://schemas.microsoft.com/office/2007/relationships/media" Target="file:///tmp/home/.config/libreoffice/4/user/gallery/~PP563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5146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c66"/>
                </a:solidFill>
                <a:latin typeface="Arial"/>
              </a:rPr>
              <a:t>ТЕМА: Подпрограммы в языке Паскаль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BF82-26A3-4C48-9066-85EC609C0D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50A4339-80BC-419C-AFFA-2C11DDF3AB75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CASE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РАЖЕНИ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ение 1: Оператор 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ение 2: Оператор 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ени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: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ератор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67B-AF30-4C03-BED6-1A85A6717C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E2A0F-4268-40AA-9DDF-FF4A8AAD918C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66"/>
                </a:solidFill>
                <a:latin typeface="Arial"/>
              </a:rPr>
              <a:t>3. Циклы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клом называется такая форма организации действий, при которой одна и та же последовательность действий совершается несколько раз (или не разу) до тех пор, пока выполняется некоторое условие. Существует две разновидности циклов: цикл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управляемые условиями и циклы с параметрам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F47-5E5B-4B84-9D01-E6122C21F13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C67E2-0C23-4653-906F-6A60B88C72FA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Arial"/>
              </a:rPr>
              <a:t>1) Циклы управляемые условиями: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9677520" cy="3200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)Циклы типа «Пока» - с предусловие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)Циклы типа «До»  -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стусловие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B01-470C-4791-ABF5-96D53BD9568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090BA-CAFA-4C18-8F43-426D5B15AC7D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Цикл типа «По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       условие        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р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29528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133720"/>
            <a:ext cx="2057400" cy="1676160"/>
          </a:xfrm>
          <a:prstGeom prst="flowChartDecis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129528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1295280"/>
            <a:ext cx="0" cy="4419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514240" y="29718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29718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4343400"/>
            <a:ext cx="2133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4343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4724280"/>
            <a:ext cx="1752840" cy="533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2971800"/>
            <a:ext cx="0" cy="2819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57150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648320" y="52578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29718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4A6-AD42-4B1C-95E2-0673C254E26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FC908-460D-4634-B222-122BC4E40BA0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Цикл типа «До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рия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т                             да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лов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1295280"/>
            <a:ext cx="0" cy="1067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4343400"/>
            <a:ext cx="2819160" cy="2133720"/>
          </a:xfrm>
          <a:prstGeom prst="flowChartDecis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12952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294920" y="54100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362320"/>
            <a:ext cx="175284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541008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54100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295280" y="1295280"/>
            <a:ext cx="0" cy="4114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32767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EAC-C6A8-46FB-85DA-27384FD1E4B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3C9FD-F20D-4CDD-A2C4-7CAB139FC82B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2) Циклы, управляемые условиями в Паскал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WHILE &lt;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лови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ло цик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REPE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ло цик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I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лов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98F-F80D-4DEC-A52F-A968A06338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FA5E0-A4BC-442A-9C5C-23071B85D648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Цикл с параметро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256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imes New Roman"/>
              </a:rPr>
              <a:t>s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р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1447920"/>
            <a:ext cx="0" cy="99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2438280"/>
            <a:ext cx="3124080" cy="1371600"/>
          </a:xfrm>
          <a:prstGeom prst="hexagon">
            <a:avLst>
              <a:gd name="adj" fmla="val 56942"/>
              <a:gd name="vf" fmla="val 11547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600200"/>
            <a:ext cx="2667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0200"/>
            <a:ext cx="0" cy="4800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6400800"/>
            <a:ext cx="2819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4572000"/>
            <a:ext cx="1524240" cy="838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800600" y="5486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38098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9F7-77F6-45B6-A80A-64B3A743A5E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19B76-CFFE-4F4F-BF9B-9FDD167AC397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Циклы с параметром в Паскал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:=I1  TO IN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о цик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:=IN  DOWNTO I1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о цик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03D-FD67-4B96-A0BA-85228D65B15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4CC7B-928B-4036-B485-BD673232D7D3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c66"/>
                </a:solidFill>
                <a:latin typeface="Arial"/>
              </a:rPr>
              <a:t>Подпрограммы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43D1-724F-46D7-982C-7C4474B42A3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B217F4B-6E7D-40D7-9F8F-5787F2E6DE07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спомогательный алгорит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Вспомогательны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зывается алгоритм, снабженный таким заголовком, который позволяет вызывать этот алгоритм из других алгоритм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языках программирования вспомогательные алгоритмы реализуются с помощью подпрограм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24A-FEFC-49CA-A09D-09B1430C847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42B00-1A49-4E9E-B76B-79CBA57914D3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Arial"/>
              </a:rPr>
              <a:t>Определение алгоритма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горит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четкая система правил, которые задают последовательность действий над некоторыми объектами и после конечного числа шагов приводят к достижению поставленной цели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37A-E80F-4F55-B1EF-42FB96B44D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93FE1-7E7F-4345-9411-B74ACDA27A02}" type="datetime1">
              <a:rPr lang="en-US"/>
              <a:t>07/30/26</a:t>
            </a:fld>
          </a:p>
        </p:txBody>
      </p:sp>
    </p:spTree>
  </p:cSld>
  <p:transition advTm="16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 языке Паскаль подпрограммы реализуются с помощью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256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ФУНКЦ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ПРОЦЕДУ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327A-8EDA-4B82-B38A-C7298DD0649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91FDC-E9AA-4E2C-A221-E655036E426C}" type="datetime1">
              <a:rPr lang="en-US"/>
              <a:t>07/30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рганизация функци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4549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   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 name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аметры:тип): тип функ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b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о функ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C27-EB1C-423E-A1F2-2F44450432B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F5231-5CB1-4416-883C-CE072888DD66}" type="datetime1">
              <a:rPr lang="en-US"/>
              <a:t>07/30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рганизация процедур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4549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   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e name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аметры:тип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b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о процедур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005-FFF8-42FD-BDE9-C815B53CCD0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10773-2DEC-44D4-A733-6E791F29AB99}" type="datetime1">
              <a:rPr lang="en-US"/>
              <a:t>07/30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тличие процедуры от функции состоит в том, что имя функции в отличие от имени процедуры является переменной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65E-C77D-4A62-AA23-F53F120C9BB7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3399F-E5C4-4080-8FD0-8BC714D53766}" type="datetime1">
              <a:rPr lang="en-US"/>
              <a:t>07/30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оцедуры и функции могут быть без параметров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81F-B032-40E9-9D92-5FAB63991B20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342B8-9697-4B31-8F05-363ECEEF7C4B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2560" y="228240"/>
            <a:ext cx="8461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тки, типы, переменные, функции и процедуры, описанные внутри процедуры или функции называются 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</a:rPr>
              <a:t>локальными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, и доступны только внутри данной процедуры или функци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210-60C7-4F01-B52E-EAF8B403A5E3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17544-E06B-416F-B8A7-DBD14D3D38BD}" type="datetime1">
              <a:rPr lang="en-US"/>
              <a:t>07/30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200" y="609480"/>
            <a:ext cx="8156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раметры процедуры или функции называются 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</a:rPr>
              <a:t>формальными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параметрами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раметры, подставляемые в процедуру или функцию вместо формальных параметров называются 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</a:rPr>
              <a:t>фактическими</a:t>
            </a:r>
            <a:r>
              <a:rPr b="0" lang="ru-RU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раметр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1C5-9113-4545-9DE4-D9F3ECE94DB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EB053-781F-4EB0-91F9-E581ABCAAD04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c66"/>
                </a:solidFill>
                <a:latin typeface="Arial"/>
              </a:rPr>
              <a:t>Количество и тип формальных и фактических параметров должны </a:t>
            </a:r>
            <a:r>
              <a:rPr b="0" lang="ru-RU" sz="6600" spc="-1" strike="noStrike" u="sng">
                <a:solidFill>
                  <a:srgbClr val="ff0033"/>
                </a:solidFill>
                <a:uFillTx/>
                <a:latin typeface="Arial"/>
              </a:rPr>
              <a:t>совпадать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30E2-4B4E-435D-931B-3C28F2E7F61B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C879A-DC00-436B-B57B-64D33AEC7822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81240" y="990720"/>
            <a:ext cx="975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cc66"/>
                </a:solidFill>
                <a:latin typeface="Arial"/>
              </a:rPr>
              <a:t>Основные алгоритмические конструкции</a:t>
            </a:r>
            <a:endParaRPr b="0" lang="en-US" sz="8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E959-9A08-46A3-93E8-08E9E5989DC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E262132-FF25-4A39-B4D5-44740876A03C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66"/>
                </a:solidFill>
                <a:latin typeface="Arial"/>
              </a:rPr>
              <a:t>1. Линейный алгоритм (цепочка)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274284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ействия выполняются в той последовательности, в которой они записаны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03C-5730-4BB4-8176-CB340296C3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555D9-5A81-49EC-B6E0-CC318CF41C5C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66"/>
                </a:solidFill>
                <a:latin typeface="Arial"/>
              </a:rPr>
              <a:t>1. Блок схема линейного алгоритма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йствие 1            Действие 2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Действи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352680"/>
            <a:ext cx="2362320" cy="838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3352680"/>
            <a:ext cx="2209680" cy="838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3352680"/>
            <a:ext cx="2286000" cy="838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8098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7339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621-1184-44F6-ACB7-51EF58A2222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670A7-0738-40F9-AF44-44714E716B5E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тв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твление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такая форма организации действий, при которой в зависимости от выполнения или невыполнения некоторого условия совершается либо одна, либо другая последовательность действ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473-0C0E-496A-A289-1C1EFA21396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1FD3F-AD6B-49DE-A334-5D6C6B0DA6F0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cc66"/>
                </a:solidFill>
                <a:latin typeface="Arial"/>
              </a:rPr>
              <a:t>Ветвления:</a:t>
            </a:r>
            <a:r>
              <a:rPr b="1" lang="ru-RU" sz="5400" spc="-1" strike="noStrike">
                <a:solidFill>
                  <a:srgbClr val="ffcc66"/>
                </a:solidFill>
                <a:latin typeface="Arial"/>
                <a:ea typeface="Times New Roman"/>
              </a:rPr>
              <a:t>                                                                         Если</a:t>
            </a:r>
            <a:r>
              <a:rPr b="0" lang="ru-RU" sz="5400" spc="-1" strike="noStrike">
                <a:solidFill>
                  <a:srgbClr val="ffcc66"/>
                </a:solidFill>
                <a:latin typeface="Arial"/>
                <a:ea typeface="Times New Roman"/>
              </a:rPr>
              <a:t> &lt;условие&gt; </a:t>
            </a:r>
            <a:r>
              <a:rPr b="1" lang="ru-RU" sz="5400" spc="-1" strike="noStrike">
                <a:solidFill>
                  <a:srgbClr val="ffcc66"/>
                </a:solidFill>
                <a:latin typeface="Arial"/>
                <a:ea typeface="Times New Roman"/>
              </a:rPr>
              <a:t>то</a:t>
            </a:r>
            <a:r>
              <a:rPr b="0" lang="ru-RU" sz="5400" spc="-1" strike="noStrike">
                <a:solidFill>
                  <a:srgbClr val="ffcc66"/>
                </a:solidFill>
                <a:latin typeface="Arial"/>
                <a:ea typeface="Times New Roman"/>
              </a:rPr>
              <a:t> &lt;серия 1&gt;</a:t>
            </a:r>
            <a:r>
              <a:rPr b="1" lang="ru-RU" sz="5400" spc="-1" strike="noStrike">
                <a:solidFill>
                  <a:srgbClr val="ffcc66"/>
                </a:solidFill>
                <a:latin typeface="Arial"/>
                <a:ea typeface="Times New Roman"/>
              </a:rPr>
              <a:t> иначе </a:t>
            </a:r>
            <a:r>
              <a:rPr b="0" lang="ru-RU" sz="5400" spc="-1" strike="noStrike">
                <a:solidFill>
                  <a:srgbClr val="ffcc66"/>
                </a:solidFill>
                <a:latin typeface="Arial"/>
                <a:ea typeface="Times New Roman"/>
              </a:rPr>
              <a:t>&lt;серия 2&gt;</a:t>
            </a:r>
            <a:r>
              <a:rPr b="1" lang="ru-RU" sz="5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7E1-600F-49E9-8C9F-4C48FCC6B8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C4E3F-9E90-4B16-83EB-EE26751B765A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Блок схема условного                           алгоритма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       Условие       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рия 1                               серия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1905120"/>
            <a:ext cx="2590920" cy="1981080"/>
          </a:xfrm>
          <a:prstGeom prst="diamond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2895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4114800"/>
            <a:ext cx="1981440" cy="838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89548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4114800"/>
            <a:ext cx="1981080" cy="838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13716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5486400"/>
            <a:ext cx="4496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48640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F85-6287-4C16-BB3F-FB00F64636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959BE-D7A8-4706-B657-0D0A30499DD6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твления в языке Паскал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&lt;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лови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 TH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ерато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ерато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EDC-83AD-46E7-BB36-E679223B34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B22B8-75A1-427A-B2D0-649A3AFD6240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ндалупский Боба</cp:lastModifiedBy>
  <dcterms:modified xsi:type="dcterms:W3CDTF">2002-03-13T18:18:23Z</dcterms:modified>
  <cp:revision>11</cp:revision>
  <dc:subject/>
  <dc:title>Презентация PowerPoint</dc:title>
</cp:coreProperties>
</file>